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20B64-A2D1-4899-BDD1-1DFD32C35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4689E-FF8D-43F0-8686-D81F805CE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C43B7-779B-4613-B03C-FF3DEF310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20EFE-E300-4B9A-B88A-5E94494BF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90007-0631-4849-B7C9-1454F7438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16C61-814F-42BA-A72E-7DE913C34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C6D9B-8953-4C97-8C7E-704A9B4FB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21984-5275-4906-A68E-A9A9DC6ED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E2537-54B3-45EC-A724-343F6DEB7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8477E-9049-448D-A344-5386B87A9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F82A6-F6EB-4A47-967E-907F1E196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F43E5-E195-41ED-8241-CC22793A9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7121D-2D12-4B0B-BBA9-DC6127ABF1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path/.endsWith" TargetMode="External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ring Manipulatio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pter 1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chapter explains the String facilities. You have already seen some of the main methods of the String cl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aring Strin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thods: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s, equalsIgnoreCase, compare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quals:  if (string1.equals (string2)) result = “They are equal”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sIgnoreCase:   “This string”  vs. “this string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reTo returns a result of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 = equ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gative = object precedes positive object that foll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itive = object foll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 = ant.compareTo (“bee”); // returns a negative number (ANSI value for b greater that 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mending Strin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l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ing1 = “Massassappi”.replace ( ‘i’ , ‘a’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duces Mississipp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Lower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ing1 = “Version 1.1” 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ult = string1.toLowerCase ( 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duces ver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Upper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ing1 = “Java”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ult = string1.toUpperCase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duces JA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666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i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ing1 = “   Center   “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ult = string1.trim ( 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duces “Center” without leading/following spa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ining Strin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ngth returns current number of charac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ing1.length returns characters in string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length often used in loops with arra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string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tracts a specified part of a st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ing1 = “position”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 = string1.substring (2,5) 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 = sit // remember start count at ze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666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r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r c1, c2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turns the character at a specified pos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ing1 = “position”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1 = string1.charAt(1); // c1 = o // remember start at zero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dexO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a substring contained within a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 n = “mississippi”.index(“is”,4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s n to 4 // start count at ze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we tried (“is” , 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 set to -1 // not fou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stIndex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turn rightmost occurrence of subst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place = “//a.b.c/directory/file.lastIndexOf(“/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lue 17 returned – again start your count at ze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dsWi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es String end with a particular substr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olean r  = “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path/.endsWi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“/”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//sets r to tr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ringTokenizer cla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data has repeated substrings seperated by special characters splitting with stringTokenizer class more easily d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nuary 21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6       ,7,10,10,12,13,  15,  21, 20, 19,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parators are spaces after January and commas after each nu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xtToken ( 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ing example1 = “January 21 5”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ing month, day, hour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ingTokenizer senddata = new StingTokenizer (example1, “ “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th = sumData.nextToken( 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y = sumData.nextToken( 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urs = sumData.nextToken( 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sMoreTokens( 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turns true if there are more data for nextToken to fet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ort.util.*; // whenever StringTokenizer class to be u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274320"/>
            <a:ext cx="8153280" cy="30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roduction: Strings are very important. All programming languages have primitive character manip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3505320"/>
            <a:ext cx="8229600" cy="26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va has a useful collection of methods associated with Strings. This chapter reviews the features covered earlier in the text and extends the study of String process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ring conver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mitive types: int, double, boolean, character may be u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 n = 123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ing s = Integer.toString (n); // s becomes “123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uble d = 12.34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ing s = Double.toString (d);  // s becomes “12.34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rse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 = Integer(SomeTextField.getText( )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verts a String into an 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 = Double.parseDouble (s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ring paramet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ing any = “Hello”;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turn any + a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thod returns concatenated String HelloHel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of String processing: String class has replace method – only handels a single character at a time. See method replace page 288. Replaces subst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18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762120"/>
            <a:ext cx="822960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vate String replace (String original, String from, String to) {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ring case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70 Joseph Weizenbaum’s program ELIZA simulates psychiatr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e page 289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keys in a stat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responds – echoes users statement – asks wh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 Psychiatrist pages 289-29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 AskFraiser pages 291-29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reenshot page 29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e Summary Strings page 29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situations where Strings are used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play messages on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put text from us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ore data on files (see Chapter 17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arching web p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ld text for word processing and edi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ing Strings: a rec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lare variables and provide initial val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ing x, y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ing myName = “Par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ing myCountry = new String (“Japan”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 new is performed implicitly and explicitly – it does not have to be us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ings may be assigned to other Str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ing x = “England”; String y = “France”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 = x;   y = “ “; // zero length St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concatenation operat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 number = 123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Field.setText (“ Value is “ + number 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va rule: when one item is a string the others  are converted to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value = 23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Field.setText ( “ value is “ + (22 + 33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/ value is 55     -    what is displayed in Text fie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ending    x + “ something”  // adds to end of 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are Strin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( x.equals (y)) …// the .equals operator is used with String (not  = =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rays of Str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ing [ ] cities = new String [10]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ities[ 1 ] = “Los Angles”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characters within Strin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uble quote surr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ing x = “abc”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display a double quote use \ charac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xtField.setText ( “ A \“tricky “ \“ problem!”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\n is the newline charac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\t is the tab charca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ote about the class type ch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lds one item as a 16 bit unicode charac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be compared as swiftly as 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r initial = ‘M’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// note single quo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r marker = ‘\n’;  // \n is a single charac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racter type rarely used but is effici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String clas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ring class metho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exce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ingIndexOutOfB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ex too large or neg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e page 228 screenshot of StringTemplate 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 keys in the Strings, result field tells if they are equ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( string1.equals(string2)) result = “They are equal.”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se result = “They are not equal.”;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05T15:09:03Z</dcterms:created>
  <dc:creator>ITS</dc:creator>
  <dc:description/>
  <dc:language>en-US</dc:language>
  <cp:lastModifiedBy>ITS</cp:lastModifiedBy>
  <dcterms:modified xsi:type="dcterms:W3CDTF">2005-05-05T19:13:23Z</dcterms:modified>
  <cp:revision>14</cp:revision>
  <dc:subject/>
  <dc:title>String Manipulation Chapter 15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538236989</vt:r8>
  </property>
  <property fmtid="{D5CDD505-2E9C-101B-9397-08002B2CF9AE}" pid="3" name="_AuthorEmail">
    <vt:lpwstr>rfarkas@ccac.edu</vt:lpwstr>
  </property>
  <property fmtid="{D5CDD505-2E9C-101B-9397-08002B2CF9AE}" pid="4" name="_AuthorEmailDisplayName">
    <vt:lpwstr>Farkas, Roderic R.</vt:lpwstr>
  </property>
  <property fmtid="{D5CDD505-2E9C-101B-9397-08002B2CF9AE}" pid="5" name="_EmailSubject">
    <vt:lpwstr>Bell and Parr Chapter 15</vt:lpwstr>
  </property>
</Properties>
</file>